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2AC-8BE0-4FCB-8FF8-C647173A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65D-7A0E-4298-AB85-466BA5C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C65-7022-42E8-AD83-4E498CF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219-96F5-4230-A22C-CACD22F6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069C-28DB-46E8-AA5E-01A74F52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E91D-D328-472B-841C-C5B9E7FE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A08A-0ED0-4FFF-BF40-90DF8F0C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C580-6967-4421-AEDC-C0AF972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FDD4-278C-425E-9692-610876A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DECC-B6F3-420D-B6A6-9D963FC1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27FC-70F6-443B-9D75-262AB92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03E-F4D8-4129-87A4-1124A6E1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FCE8-3B75-46E1-9453-E82A820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9CE-7896-49CC-80A8-D879191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3C2E-3163-40B8-AB63-603249EB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A8F-EB4B-41A3-A7A6-09495518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D213-1DC8-4FE3-831B-C2A033E8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3E5-56E1-4364-BF2B-6152183F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09E-5919-423D-80D1-68A30C9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92C-50FF-4C39-9BEF-E5A2498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B34-C235-41DD-AB72-C882C5C1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2A3-9544-494C-B43B-05ECBF04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DA0-E3A1-414D-9219-EA5BEDD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0C8-126B-46DF-9386-F193B7B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299-0924-4469-B29A-6CEA6CD47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584-AFB0-4FA9-AFA6-C61B7CF730C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Vue d'ensemble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63F-51E6-43EA-A847-561C6D8A5FD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1260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1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urs pendant toute la journé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sur la programmation financière. Présente les éléments nécessaires pour comprendre les défis que doit relever une économie à court et à moyen terme. Met en lien ces éléments avec l'analyse présentée par le FMI dans ses rapports Article 4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2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urs en matiné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ur la manière d'utiliser les indicateurs macroéconomiques pour préparer une “Évaluation macroéconomique” et remplir un “Cadre de gestion des risques” (CGR).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telier dans l'après-midi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onsacré à un CGR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3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Deux cours en matiné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(Architecture financière internationale ; Programmes d'évaluation du secteur financier).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telier dans l'après-midi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ur le CGR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F9E7-45D5-4C73-AC46-93B4394445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5-09-02T13:26:58Z</dcterms:modified>
  <cp:revision>237</cp:revision>
  <dc:subject/>
  <dc:title>Slide 1</dc:title>
</cp:coreProperties>
</file>